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D48-16BD-4A42-9064-78E3670D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1D3-2ED4-44EC-9BDE-A9D6EDC6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EF1-2B09-4C20-B825-412B4871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2B7-A6A6-4E2B-B386-789A40AB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167-3092-4AD6-B76C-79EB18E1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F32-65D5-4664-B465-07A3E5A8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EE8-FC29-4AE0-8514-34DFBB5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C24-EEB8-4F53-AD6D-FE6BFF49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894-0BB8-4AE0-A625-FBB71931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4AB-8B50-4CC6-BC2A-4AB28D5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BC5-7529-4BC3-BF14-6F85694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DE0-9E3B-4EB6-82C9-9BA60CF6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90DC-0843-4B54-BF13-476BF92C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71600" y="1371600"/>
          <a:ext cx="6324480" cy="52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32448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211040" y="304920"/>
            <a:ext cx="683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ulative number and proportion of records i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by handsearching as of Issue 1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52280" y="457200"/>
            <a:ext cx="679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List survey responses by year as of March 11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1717560"/>
          <a:ext cx="838188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17560"/>
                    <a:ext cx="838188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8080" y="990720"/>
          <a:ext cx="7391520" cy="55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9152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25480" y="228600"/>
            <a:ext cx="75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journal and conference proceedings registratio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for inclusion in the MasterList by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f March 11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609480"/>
          <a:ext cx="8382240" cy="55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8224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12040" y="2286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37:39Z</dcterms:created>
  <dc:creator>rscherer</dc:creator>
  <dc:description/>
  <dc:language>en-US</dc:language>
  <cp:lastModifiedBy>Claire Allen</cp:lastModifiedBy>
  <dcterms:modified xsi:type="dcterms:W3CDTF">2009-03-25T08:42:43Z</dcterms:modified>
  <cp:revision>8</cp:revision>
  <dc:subject/>
  <dc:title>Slide 1</dc:title>
</cp:coreProperties>
</file>